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A640-0F72-4F34-94AA-614C4673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70A-8E19-4DB7-A732-A37A9A75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1D2-F815-499A-A969-437C18E7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BEB4-DD48-4B78-BD44-BA02A1D0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1AE-93A9-40BE-97E8-35385F51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C9A-72CD-48C3-A1D7-B2EFD6BA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003-4EB6-407D-A8F5-0FC9BE9A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CEA-A031-41DF-BBB0-59C98E00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323-497D-4929-9AAD-46CCA006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2702-6E29-4595-A77C-472E3241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13F7-432C-4D83-864D-D4D76E43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120-B288-4135-8114-9040D6FD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49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6019-072E-478F-A85C-2EC3D87DB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eb.mit.edu/invent/iow/wakefield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49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9400" y="46483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4989600"/>
            <a:ext cx="2590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roadway"/>
              </a:rPr>
              <a:t>Camryn I</a:t>
            </a:r>
            <a:r>
              <a:rPr b="0" lang="en-US" sz="15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Broadway"/>
              </a:rPr>
              <a:t>5/11/11</a:t>
            </a:r>
            <a:r>
              <a:rPr b="0" lang="en-US" sz="15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Broadway"/>
              </a:rPr>
              <a:t>Period7</a:t>
            </a:r>
            <a:r>
              <a:rPr b="0" lang="en-US" sz="15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Broadway"/>
              </a:rPr>
              <a:t>Computer#2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2280"/>
            <a:ext cx="8229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Chocolate Chip Cook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14400" y="30481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57800" y="3733920"/>
            <a:ext cx="30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Invented by: Ruth Wake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2560" y="6248520"/>
            <a:ext cx="63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 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/1/11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49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Wakefield"/>
          <p:cNvPicPr/>
          <p:nvPr/>
        </p:nvPicPr>
        <p:blipFill>
          <a:blip r:embed="rId1"/>
          <a:stretch/>
        </p:blipFill>
        <p:spPr>
          <a:xfrm>
            <a:off x="762120" y="380880"/>
            <a:ext cx="2209680" cy="3353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Wakefield"/>
          <p:cNvPicPr/>
          <p:nvPr/>
        </p:nvPicPr>
        <p:blipFill>
          <a:blip r:embed="rId2"/>
          <a:srcRect l="25008" t="0" r="0" b="0"/>
          <a:stretch/>
        </p:blipFill>
        <p:spPr>
          <a:xfrm>
            <a:off x="2971800" y="380880"/>
            <a:ext cx="4800600" cy="33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70160" y="4684680"/>
            <a:ext cx="557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4419720"/>
            <a:ext cx="51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ocolate Chip Cook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/16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wakefiel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49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Inventor: Ruth Wake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Her full name is Ruth Graves Wake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She graduated from Framingham State Normal School Department of Household Arts in 192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After graduation, she worked as a dietitian and food lectur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Ruth and her husband purchased a Cape Cod-Style Toll House located halfway between Boston and New Bedf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Ruth died in 197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49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Invention: Chocolate Chip Cook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Ruth’s favorite recipe was for Butter Drop Do Cook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he ran out of baker’s chocolate while making the cook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he found a semi-sweet chocolate bar, given to her by Andrew Nes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Ruth cut the chocolate into tiny pieces, thinking it would melt, but the chocolate kept its shape and became so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The cookies became very popular and also, it was published in the Boston newsp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Nestle had an idea to cut the chocolate bar into small mors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Ruth and her husband sold the house in 1996, to a family that tried to turn the Toll House into a night clu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In 1970, the Saccone family who turned the Toll House back to its original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The Toll House burned down in 1984 on New Years E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8:50Z</dcterms:created>
  <dc:creator>install</dc:creator>
  <dc:description/>
  <dc:language>en-US</dc:language>
  <cp:lastModifiedBy>install</cp:lastModifiedBy>
  <dcterms:modified xsi:type="dcterms:W3CDTF">2011-06-01T17:37:58Z</dcterms:modified>
  <cp:revision>9</cp:revision>
  <dc:subject/>
  <dc:title>Slide 1</dc:title>
</cp:coreProperties>
</file>